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5F09-9852-4284-B619-CEFFA9A0B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B8C1-0942-4979-952B-6915B843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C02E-6889-41B2-8ABF-E8FF8992B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6B9E-522E-4139-8E1E-AB7CC0C78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2EDB-A34A-4979-82BB-A201D7158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6AA7-0207-443A-9A20-60F76975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2CDE8-3E05-4CCC-97FE-2B445E37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5915-60C7-461A-B230-FD8A31CB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2F9BD-F74F-485D-86B6-81942536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396F-DA0D-4F59-83A3-AB03128F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EE63-8CC4-4D97-BEEB-AF56D06E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74E8-98F7-446D-9486-B5482B98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F00A-3F15-41AD-8117-FD419FC9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E8A5-4B9E-49DB-8D43-C8300857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455C-7D5A-409F-9C6F-B799AE93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D112-4E02-4E28-A48E-8BD05BBA8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94DE-DA87-4C8A-8BD7-4FF263B0E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343B-ADB2-46A7-B26B-9EBA5D8F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1892-64E9-45B4-AB6C-473906E5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31B8-8744-4152-A826-E4FD43F3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C508-72F4-41D5-B703-D7CE3F61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ED1D-025A-44AE-9F7E-C190B8C7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330F-5300-45AD-B403-B2B5CECF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C926-FEFC-4E53-A537-CE8C1556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1A38-E8F1-420D-A867-76D6016EF12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7795-5E2F-48A0-851F-6AA6F01ABDE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FRUMOSUL</a:t>
            </a:r>
            <a:endParaRPr b="1" lang="en-US" sz="1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905120" y="4059000"/>
            <a:ext cx="586728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ffffff"/>
                </a:solidFill>
                <a:latin typeface="Arial"/>
              </a:rPr>
              <a:t>Manualul de Estetică, clasa a XII-a,</a:t>
            </a: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 Adrian Iorgulescu, Doina Pungă, Gheorghe Stroia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Calibri"/>
              </a:rPr>
              <a:t>Categorie fundamentală a esteticii, frumosul reflectă însuşiri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proprietă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le naturii, vi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i socia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le cre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ilor umane capabile să trezească în personalitatea valorificatoare stări de satisfa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, emo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bucurie estetică, precum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ptitudini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înzestrările specifice ale fi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i ome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i generatoare a sentimentelor de plăcer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dmir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. Frumosul oglindeşte deopotrivă ordinea lumii exterioare, obiective şi armonia trăirilor interioare, subiective, sociabilitatea şi individualitatea omului, îmbinând planul senzorialităţii afective cu cel al raţionalităţii lucide în efortul de a obţine o imagine globală unitară asupra condiţiei uman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 plan european, primele reflecţii asupra frumosului s-au ivit în orizontul spiritual elen. Întrebându-se „ce e frumosu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”, Platon îl aprecia ca pe un lucru folositor, potrivit scopului său, făcut cu meşteşug şi care produce o plăcere recepţionată cu ajutorul văzului şi auzului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el, ca şi pentru mulţi alţii, nu toate plăcerile sunt estetice, ci numai acelea care ţin de simţurile superioare, singurele apte să asigure o stare agreabilă, de desfătare spiritual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 trebuie să năzuieşti către orice plăcere, spunea Democrit, ci numai către plăcerea pentru ceea ce este frumos”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şi de natură ideală, abstractă, plasat ca arhetip universal în zonele ideii pure, frumosul, afirma Platon, are strânse contacte cu binele, „identificându-se pretutindeni cu măsura şi proporţia”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292720" y="1773360"/>
            <a:ext cx="565200" cy="5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durile de existenţă ale frumosului. […]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umosul natural, asigurat de existenţa elementelor primordiale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canice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zice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imice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ologice. […]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umosul uman, constituit di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umuseţea corpului omenesc, alcătuită în principal din elemente naturale, native, dar şi dintr-o îndelungată şlefuire civilizatoare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umuseţea sufletească, rezultat aproape integral al eforturilor de înnobilare umană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umuseţea etică a vastelor relaţii dintre oameni [...]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umuseţea ambientală a locului şi rezultatele muncii omeneşti. […]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umosul artistic. Existenţa sa este asigurată […] d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urile reflectării frumuseţii din realitate; […]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pacităţile demiurgice ale omului de artă care, pornind de la lumea reală, făureşte o realitate nouă.[…]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Elev</cp:lastModifiedBy>
  <dcterms:modified xsi:type="dcterms:W3CDTF">2012-06-19T11:06:49Z</dcterms:modified>
  <cp:revision>38</cp:revision>
  <dc:subject/>
  <dc:title>SALARIUL</dc:title>
</cp:coreProperties>
</file>